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761-8E56-4D90-BFFE-D1B346FD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DB39-3C77-4575-A6D3-918F0350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A7D-350A-4B8A-8398-95B39EB7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7A03-2149-487B-98D6-2F9FD691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2886-3B98-40FD-8C57-CF3E439B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8BCD-FCFE-410E-A415-254BBDD1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8835-A497-48DB-9EB5-AA1F7AB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D67-5BCA-4BE0-BAEA-B90F2B6C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C68-503C-459D-B6E5-A72208B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F06D-7FDF-409C-ADC5-2DDE4653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20F-5ADE-4BFB-AE7B-1AC01A8D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362-C600-461C-9429-EEDBB10C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8825-3249-4F7D-8175-D68C3A5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2781-685F-4C1F-9338-73FE2F5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A7EE-BAAC-4195-8506-C9E13BF6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4F9B-544E-434E-8A9A-134F75B8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53D3-2CBC-4F78-9A23-12BD3F0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67B-43DF-4781-8C16-ED3DEE04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0C7-197D-4B59-B8B3-0A5E38D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173-2F9A-43E9-8957-6561CEE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E7B-C084-4D0C-9FFA-EEC7B667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8FA-9D6F-4C66-A0D6-D20C83E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711-DF14-4165-BB58-A946855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0B08-99EB-4C16-AEFC-0A8849D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A7EB-F3EA-4F9B-900C-27EE66B393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3F2-CBC3-4F8F-8F24-59A0CEAEC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hyperlink" Target="http://www.google.com/imgres?imgurl=http://www.freedomsphoenix.com/Uploads/Graphics/101-0824211022-happy-family.gif&amp;imgrefurl=http://www.freedomsphoenix.com/Reference-List.htm%3FPgNo%3D2&amp;usg=__FoywlwVuqgVoutFiCmunXYfJj5Y=&amp;h=335&amp;w=450&amp;sz=72&amp;hl=en&amp;start=17&amp;itbs=1&amp;tbnid=wM1nAy3DIU2qQM:&amp;tbnh=95&amp;tbnw=127&amp;prev=/images%3Fq%3Dfamily%26hl%3Den%26safe%3Dactive%26gbv%3D2%26tbs%3Disch:1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hyperlink" Target="http://dezignus.com/wp-content/uploads/2008/04/vector-animals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m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cript MT Bold"/>
              </a:rPr>
              <a:t>Liliana &amp; Ade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523880"/>
            <a:ext cx="7238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ript MT Bold"/>
              </a:rPr>
              <a:t>La clase De Espan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Fam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a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M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Hi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Hija</a:t>
            </a:r>
            <a:r>
              <a:rPr b="0" lang="en-US" sz="2800" spc="-1" strike="noStrike">
                <a:solidFill>
                  <a:srgbClr val="ffffff"/>
                </a:solidFill>
                <a:latin typeface="Script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2362320"/>
            <a:ext cx="3200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os Trabajo’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nt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Ac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Actr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Balar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hotograp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396252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Los Colore’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Az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Ro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Neg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Blan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Ros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Mor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7"/>
          <a:stretch/>
        </p:blipFill>
        <p:spPr>
          <a:xfrm>
            <a:off x="0" y="1295280"/>
            <a:ext cx="4495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os Anim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Va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Tortu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Le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Zeb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esc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raco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See full 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1371600"/>
            <a:ext cx="5867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 Rop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Fal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Panta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mi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Brasi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Jake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May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152280" y="182880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cript MT Bold"/>
              </a:rPr>
              <a:t>Las Escue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East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Carter 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Southeas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Fi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H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cript MT Bold"/>
              </a:rPr>
              <a:t>East Forsy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4038480" y="1752480"/>
            <a:ext cx="464832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7:41Z</dcterms:created>
  <dc:creator>WSFCS Workstation</dc:creator>
  <dc:description/>
  <dc:language>en-US</dc:language>
  <cp:lastModifiedBy>WSFCS Workstation</cp:lastModifiedBy>
  <dcterms:modified xsi:type="dcterms:W3CDTF">2010-04-28T18:57:35Z</dcterms:modified>
  <cp:revision>3</cp:revision>
  <dc:subject/>
  <dc:title>Slide 1</dc:title>
</cp:coreProperties>
</file>